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248B-EDD8-49DA-AF1A-1C1C7A9F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276-3763-499D-981E-8A4A8EC6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789-EE9A-413F-A8BE-6E5399A3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3D8-200F-4F9C-B2C8-FF13677D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C38-B35D-49F2-AFE6-DA08D864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B213-CF27-4823-9543-7526FEFA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02B-3548-445A-AA8E-7D07BEFA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7E9B-A352-4B26-8258-921D886F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A40F-F840-4F9E-907F-8F0E7BA5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55C2-9632-4DD8-B14A-594514F2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592-902D-466C-BB23-CE027F80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A65-B5FD-4417-917A-40DAAD8B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25D6-2C6F-4982-9B74-92AEB88987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c00000"/>
                </a:solidFill>
                <a:latin typeface="Calibri"/>
              </a:rPr>
              <a:t>Ads &amp; sig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805120" y="1052640"/>
            <a:ext cx="36385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M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2" descr=""/>
          <p:cNvPicPr/>
          <p:nvPr/>
        </p:nvPicPr>
        <p:blipFill>
          <a:blip r:embed="rId1"/>
          <a:stretch/>
        </p:blipFill>
        <p:spPr>
          <a:xfrm>
            <a:off x="2411280" y="130320"/>
            <a:ext cx="4032360" cy="66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2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68000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2" descr=""/>
          <p:cNvPicPr/>
          <p:nvPr/>
        </p:nvPicPr>
        <p:blipFill>
          <a:blip r:embed="rId1"/>
          <a:stretch/>
        </p:blipFill>
        <p:spPr>
          <a:xfrm>
            <a:off x="2556000" y="90360"/>
            <a:ext cx="453708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2" descr=""/>
          <p:cNvPicPr/>
          <p:nvPr/>
        </p:nvPicPr>
        <p:blipFill>
          <a:blip r:embed="rId1"/>
          <a:stretch/>
        </p:blipFill>
        <p:spPr>
          <a:xfrm>
            <a:off x="2330280" y="115920"/>
            <a:ext cx="497844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09:21:18Z</dcterms:created>
  <dc:creator>lester</dc:creator>
  <dc:description/>
  <dc:language>en-US</dc:language>
  <cp:lastModifiedBy>Ann Louise</cp:lastModifiedBy>
  <dcterms:modified xsi:type="dcterms:W3CDTF">2013-05-05T02:13:05Z</dcterms:modified>
  <cp:revision>18</cp:revision>
  <dc:subject/>
  <dc:title>PowerPoint Presentation</dc:title>
</cp:coreProperties>
</file>